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260-50D1-445C-9FA0-261B6B58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0F9-D539-42ED-873F-3C1A3B62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362-C5B3-4245-9255-83DD1B8D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F55-3EE0-4247-B72F-99B6DA6C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A13B-A47B-48D7-850B-8C31B953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B1C1-F9AD-4626-AD28-7206B2E4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D98C-DAC2-4BCD-91A3-8BA5A3C5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E60A-EFE2-44B9-8039-3872428C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56E5-BB6A-4C18-B27B-B4C3E1F9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1A2F-80B2-4809-843E-2F141FBF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2B50-4BBD-4B23-8A45-81BB8D68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380-2BD3-4D81-9AEB-623AD22D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F208-73BF-44C5-9CE4-F092244C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5DB6-FAEC-4693-9217-244A178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27C1-3C4A-4EB2-A113-636B177D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5715-01BF-47C0-AF12-D032EC58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1647-3278-41BE-A677-1D3E5252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C77-5257-4F1B-A592-3E25F7F2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66C-E1E3-4A77-B8A4-4ABB668F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FEE-AE84-496E-BC8D-8AE0659E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EB1-280F-492E-BC4C-376C82CA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BE7-F185-4D0F-9904-022A45CA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795-F955-4231-A9BC-8B1C7D89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02A-1AC0-44A1-8F70-F9458BCF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9912-E376-41BE-B43A-BF00D97C6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0" y="6175440"/>
            <a:ext cx="9144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BF88-B8BD-4161-AD24-6A77A7804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0" y="6175440"/>
            <a:ext cx="9144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50920" y="324000"/>
            <a:ext cx="8642160" cy="94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6156360" y="549360"/>
            <a:ext cx="1347840" cy="57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"/>
          <p:cNvPicPr/>
          <p:nvPr/>
        </p:nvPicPr>
        <p:blipFill>
          <a:blip r:embed="rId3"/>
          <a:stretch/>
        </p:blipFill>
        <p:spPr>
          <a:xfrm>
            <a:off x="2898720" y="5033880"/>
            <a:ext cx="3346560" cy="1057320"/>
          </a:xfrm>
          <a:prstGeom prst="rect">
            <a:avLst/>
          </a:prstGeom>
          <a:ln w="0">
            <a:noFill/>
          </a:ln>
        </p:spPr>
      </p:pic>
      <p:sp>
        <p:nvSpPr>
          <p:cNvPr id="87" name="Title 1"/>
          <p:cNvSpPr/>
          <p:nvPr/>
        </p:nvSpPr>
        <p:spPr>
          <a:xfrm>
            <a:off x="685800" y="1828800"/>
            <a:ext cx="777240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eminarea rezultatelor obtinute in implementarea unui proi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Noiembrie 2010, Piatra Nea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briela Macovei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C Alexiana SRL inainte"/>
          <p:cNvPicPr/>
          <p:nvPr/>
        </p:nvPicPr>
        <p:blipFill>
          <a:blip r:embed="rId1"/>
          <a:stretch/>
        </p:blipFill>
        <p:spPr>
          <a:xfrm>
            <a:off x="1809720" y="1563840"/>
            <a:ext cx="552312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C Alexiana dupa"/>
          <p:cNvPicPr/>
          <p:nvPr/>
        </p:nvPicPr>
        <p:blipFill>
          <a:blip r:embed="rId1"/>
          <a:stretch/>
        </p:blipFill>
        <p:spPr>
          <a:xfrm>
            <a:off x="2322360" y="1581120"/>
            <a:ext cx="449928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C Bucura 1"/>
          <p:cNvPicPr/>
          <p:nvPr/>
        </p:nvPicPr>
        <p:blipFill>
          <a:blip r:embed="rId1"/>
          <a:stretch/>
        </p:blipFill>
        <p:spPr>
          <a:xfrm>
            <a:off x="1846440" y="1663560"/>
            <a:ext cx="54496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SC BUCURA SRL 2"/>
          <p:cNvPicPr/>
          <p:nvPr/>
        </p:nvPicPr>
        <p:blipFill>
          <a:blip r:embed="rId1"/>
          <a:stretch/>
        </p:blipFill>
        <p:spPr>
          <a:xfrm>
            <a:off x="1928880" y="1719360"/>
            <a:ext cx="52848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SC Everest SRL inainte"/>
          <p:cNvPicPr/>
          <p:nvPr/>
        </p:nvPicPr>
        <p:blipFill>
          <a:blip r:embed="rId1"/>
          <a:stretch/>
        </p:blipFill>
        <p:spPr>
          <a:xfrm>
            <a:off x="1947960" y="1709640"/>
            <a:ext cx="52480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CEverest SRL dupa"/>
          <p:cNvPicPr/>
          <p:nvPr/>
        </p:nvPicPr>
        <p:blipFill>
          <a:blip r:embed="rId1"/>
          <a:stretch/>
        </p:blipFill>
        <p:spPr>
          <a:xfrm>
            <a:off x="2322360" y="1955880"/>
            <a:ext cx="44992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C Tera Constructii inainte"/>
          <p:cNvPicPr/>
          <p:nvPr/>
        </p:nvPicPr>
        <p:blipFill>
          <a:blip r:embed="rId1"/>
          <a:stretch/>
        </p:blipFill>
        <p:spPr>
          <a:xfrm>
            <a:off x="1901880" y="1700280"/>
            <a:ext cx="53402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SC Tera Constructii dupa"/>
          <p:cNvPicPr/>
          <p:nvPr/>
        </p:nvPicPr>
        <p:blipFill>
          <a:blip r:embed="rId1"/>
          <a:stretch/>
        </p:blipFill>
        <p:spPr>
          <a:xfrm>
            <a:off x="1892160" y="1709640"/>
            <a:ext cx="53578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C Serviancom SRL inainte"/>
          <p:cNvPicPr/>
          <p:nvPr/>
        </p:nvPicPr>
        <p:blipFill>
          <a:blip r:embed="rId1"/>
          <a:stretch/>
        </p:blipFill>
        <p:spPr>
          <a:xfrm>
            <a:off x="1965240" y="1736640"/>
            <a:ext cx="5211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SC Serviancom SRL in timpul"/>
          <p:cNvPicPr/>
          <p:nvPr/>
        </p:nvPicPr>
        <p:blipFill>
          <a:blip r:embed="rId1"/>
          <a:stretch/>
        </p:blipFill>
        <p:spPr>
          <a:xfrm>
            <a:off x="2359080" y="1919160"/>
            <a:ext cx="44258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ul diseminar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rea rezultatelor proiectului ca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le interes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tatori(Guvernul Romaniei, Comisia Europe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aboratori/Parteneri/Compet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ul la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ul in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municarea rezultatelor proiectului catre finant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 de verificare si control privind indeplinirea obligatiilor contrac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 de monitorizare proiect 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ectare date si informatii pentru fundamentarea viitoarelor programe de finantare – domenii de interventie, cheltuieli eligibile, continut ghid de aplicare, cerere de finantare si proceduri de luc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unicare rezultate catre colaboratori/parteneri/competi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onsolideaza pozitia organizatiei/companiei in domeniu(cine s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moveaza capacitatea de a elabora conduce si implementa proiecte de un anumit tip (ce stiu sa fa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olecteaza date pentru evaluarea impact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rajare networking si schimb de bune practici  (cu cine pot colabo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unicarea rezultatelor proiectului catre publicul la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de marketing al serviciilor/produselor puse la dispozi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eaza/consolideaza relatia cu mass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gurare transparenta utilizarii fondur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e la vizibilitatea brand-ului Reg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omunicare rezultate catre publicul inter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alitate de recunoastere expert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lare functiuni interdepartam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agere si selectie resurse um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re noi obiective pentru dezvol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eminare (aproape) fara costu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re contacte cu potentiali disemin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ectare date de contact (telefon fix si mobil, e-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rea intereselor acestora pentru subiecte comun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re materiale de informare adaptate acestor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eminare (aproape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t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ing li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o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te de 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uri de sociali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re la intalniri cu prezentari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itudine pro-activa fata de propunerile de colabo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tajele promovarii efic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a/compania este cunoscuta in regi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iectul se bucura de efectul de hallow pozitiv – potentiali parteneri si finant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eaza bune practici care pot fi valorificate – intern si ex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6:51:56Z</dcterms:created>
  <dc:creator>Catalin Amarinei</dc:creator>
  <dc:description/>
  <dc:language>en-US</dc:language>
  <cp:lastModifiedBy>Utilizator</cp:lastModifiedBy>
  <dcterms:modified xsi:type="dcterms:W3CDTF">2010-11-25T11:03:47Z</dcterms:modified>
  <cp:revision>15</cp:revision>
  <dc:subject/>
  <dc:title>Slide 1</dc:title>
</cp:coreProperties>
</file>