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748-4841-4970-AAFE-058E0521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562-9D5B-49D2-B94E-0578D51F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D58-F3AB-4487-9FF2-4ED8F397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73C-32C6-40DA-813F-8B884A42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C8FD-64C6-4875-96A1-13763970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96A8-3FBA-46E2-998F-293BA7BA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44BE-9B2D-47C8-9634-3D08D17D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2CC1-A3D3-43ED-B979-E965F027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7B8F-EF40-4C50-B4A8-A92F6DAD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8099-DB64-4886-8BAB-CBC87C15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EC0C-D44C-407A-A73B-E2A64B4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EDF-751D-48B7-808A-ABA00456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0B27-8B90-42C0-AC2F-74C25E67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D8CC-19AB-42E6-B3A6-3B9BCD95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46DC-6EC9-4E1F-8616-4FBD1006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B6C5-BB72-4B73-9345-766CC262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981C-AA2B-4C7D-8782-FC6840D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383-B08C-4B19-801E-898D9348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496-566E-41F9-A7A8-3796B2FF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38E-E3BE-4B57-80A2-7F844B84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E74-7D28-4275-8414-CB3A97E8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246-E3B6-4734-AE37-F441B723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103-8853-493F-8535-0AFDFCD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C32-BBED-4B68-966D-332FAEF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F1AB-4A76-49A8-AC9A-002116876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311D-9B97-4454-A709-8B82477E2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tallone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8642160" cy="94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6156360" y="549360"/>
            <a:ext cx="1347840" cy="57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3"/>
          <a:stretch/>
        </p:blipFill>
        <p:spPr>
          <a:xfrm>
            <a:off x="2898720" y="5033880"/>
            <a:ext cx="3346560" cy="1057320"/>
          </a:xfrm>
          <a:prstGeom prst="rect">
            <a:avLst/>
          </a:prstGeom>
          <a:ln w="0">
            <a:noFill/>
          </a:ln>
        </p:spPr>
      </p:pic>
      <p:sp>
        <p:nvSpPr>
          <p:cNvPr id="87" name="Title 1"/>
          <p:cNvSpPr/>
          <p:nvPr/>
        </p:nvSpPr>
        <p:spPr>
          <a:xfrm>
            <a:off x="685800" y="1557360"/>
            <a:ext cx="77724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unicarea in cadrul proiectelor finantate din Re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Noiembrie 2010, Piatra Nea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briela Macove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el mai important rol în comunicarea în cadrul echipei: 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</a:rPr>
              <a:t>managerul de proi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imeş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realizeaz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rimite rapoarte, e-mail-uri, apeluri telefonice, ţinând astfel echipa proiectului la curent cu privire la stadiul proiect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rganizează întâlniri periodice cu membrii echip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</a:rPr>
              <a:t>Managerii de proiect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u contacte cu multe persoane, atât din interiorul, cât şi din exteriorul organizaţie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feră indicaţii şi sfaturi membrilor echip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cţionează ca intermediari între membrii echipei din diferite grupuri funcţ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u rol de legătură în cadrul structurii organizaţ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</a:rPr>
              <a:t>Succesul se bazează p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pertiză şi experien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Competenţe în relaţiile 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terpersonal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el mai important instrument utilizat pentru comunicarea în cadrul echipei: 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</a:rPr>
              <a:t>întâlnir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cadrul acestor întâlniri se realizeaz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aliza stadiului activităţilor faţă de planificarea existent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valuarea rezultatelor activităţi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valuarea jaloane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doptarea deciziilor cu privire la eventuale adaptări/modificări ale planificării iniţiale, pentru întreg proiectul sau pentru una sau mai multe activităţ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/>
          <p:cNvSpPr/>
          <p:nvPr/>
        </p:nvSpPr>
        <p:spPr>
          <a:xfrm>
            <a:off x="1928880" y="2428920"/>
            <a:ext cx="5113440" cy="2232000"/>
          </a:xfrm>
          <a:custGeom>
            <a:avLst/>
            <a:gdLst>
              <a:gd name="textAreaLeft" fmla="*/ 0 w 5113440"/>
              <a:gd name="textAreaRight" fmla="*/ 5113800 w 5113440"/>
              <a:gd name="textAreaTop" fmla="*/ 558000 h 2232000"/>
              <a:gd name="textAreaBottom" fmla="*/ 16740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Întâln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73080" y="5157720"/>
            <a:ext cx="5400720" cy="9352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e managerul proiectului şi ceilalţi membri ai echi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8760" y="785520"/>
            <a:ext cx="8146800" cy="118116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e membrilor echipei, pe tipuri de activităţi derulate şi domenii de in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4. Comunicarea cu grupurile ţint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i ne adresăm? – Segmentarea grupurilor ţint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are este mesajul-cheie (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ore messag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) ş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re sunt mesajele pentru fiecare gr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e canale folosim şi cu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4.1.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egmenta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rea grupurilor ţint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2603520"/>
            <a:ext cx="2166120" cy="715320"/>
          </a:xfrm>
          <a:prstGeom prst="rect">
            <a:avLst/>
          </a:prstGeom>
          <a:solidFill>
            <a:srgbClr val="9c9cd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3640" y="1700280"/>
            <a:ext cx="5761080" cy="2160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antif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lasificare după caracteristici socio-econo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ocalizare geograf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900000" y="3933720"/>
            <a:ext cx="228600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pecif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0600" y="2322360"/>
            <a:ext cx="2283120" cy="67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14240" y="3500280"/>
            <a:ext cx="2286000" cy="78444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pecif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203640" y="3645000"/>
            <a:ext cx="5543640" cy="232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grad de impl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noştinţe, atitudine, comport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tenţie la segmentare!!!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efinirea grupurilor ţintă să fie cât mai clară şi specifică, altfel apar confuz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325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Băr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 vârsta peste 50 de 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răieşte în S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ucrează în industria film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Sylvester Stall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2492280"/>
            <a:ext cx="2558880" cy="3441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Woodyallen1"/>
          <p:cNvPicPr/>
          <p:nvPr/>
        </p:nvPicPr>
        <p:blipFill>
          <a:blip r:embed="rId3"/>
          <a:stretch/>
        </p:blipFill>
        <p:spPr>
          <a:xfrm>
            <a:off x="6516720" y="2492280"/>
            <a:ext cx="2409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ţara în ca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ea mai populară băutură est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0%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din studenţi sunt fem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Există cel mai mare procent de operaţii estetice din 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ei mai populari artişti sunt Eminem ş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ennifer Lop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928800" y="1557360"/>
            <a:ext cx="78199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Răspunsu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Monotype Corsiva"/>
              </a:rPr>
              <a:t>Republica </a:t>
            </a:r>
            <a:r>
              <a:rPr b="0" lang="en-GB" sz="5400" spc="-1" strike="noStrike">
                <a:solidFill>
                  <a:srgbClr val="000000"/>
                </a:solidFill>
                <a:latin typeface="Monotype Corsiva"/>
              </a:rPr>
              <a:t>Islamic</a:t>
            </a:r>
            <a:r>
              <a:rPr b="0" lang="ro-RO" sz="5400" spc="-1" strike="noStrike">
                <a:solidFill>
                  <a:srgbClr val="000000"/>
                </a:solidFill>
                <a:latin typeface="Monotype Corsiva"/>
              </a:rPr>
              <a:t>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Monotype Corsiva"/>
              </a:rPr>
              <a:t>IR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ul de proi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ificar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anizar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ucer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rdonar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rol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ctivităţilor şi resurselor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are pentr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îndeplinirea unui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biectiv defin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 obic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în limitele unui anumit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imp şi bug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4.2. Mesajul-che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re maxim 5-10 rândur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tenţie la cuvintele şi metaforele pe care le folosiţi (să fie adecvate grupurilor ţintă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unt de evitat negaţiile sau cuvintele cu conotaţie negativ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unt utile exprimările de tip “sloga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xemple de slo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linton: “Este timpul pentru o schimb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: “Da, put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DRU: “Investim in oamen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 Investitie locala, dezvoltare region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4.3. Canalele de comuni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43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Posibilită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teriale informative (broşuri, postere, pliante, cărţi, manu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rketing şi publici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blicitate gratuit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r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re - educ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ultări periodice cu reprezentanţi ai grupurilor ţint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website, f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900000" y="5589720"/>
            <a:ext cx="5040360" cy="43164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1" y="0"/>
                </a:lnTo>
                <a:lnTo>
                  <a:pt x="21600" y="10800"/>
                </a:lnTo>
                <a:lnTo>
                  <a:pt x="201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0000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De regulă se foloseşte o combinaţie a acestor canal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6443640" y="2565360"/>
            <a:ext cx="1008000" cy="93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5903280" y="3332880"/>
            <a:ext cx="1106640" cy="1320480"/>
            <a:chOff x="5903280" y="3332880"/>
            <a:chExt cx="1106640" cy="1320480"/>
          </a:xfrm>
        </p:grpSpPr>
        <p:sp>
          <p:nvSpPr>
            <p:cNvPr id="135" name="AutoShape 8"/>
            <p:cNvSpPr/>
            <p:nvPr/>
          </p:nvSpPr>
          <p:spPr>
            <a:xfrm rot="1641000">
              <a:off x="6316560" y="3428640"/>
              <a:ext cx="576360" cy="64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"/>
            <p:cNvSpPr/>
            <p:nvPr/>
          </p:nvSpPr>
          <p:spPr>
            <a:xfrm rot="1641000">
              <a:off x="6012000" y="3876840"/>
              <a:ext cx="718920" cy="647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0"/>
          <p:cNvGrpSpPr/>
          <p:nvPr/>
        </p:nvGrpSpPr>
        <p:grpSpPr>
          <a:xfrm>
            <a:off x="5212440" y="2907720"/>
            <a:ext cx="1321200" cy="1091520"/>
            <a:chOff x="5212440" y="2907720"/>
            <a:chExt cx="1321200" cy="1091520"/>
          </a:xfrm>
        </p:grpSpPr>
        <p:sp>
          <p:nvSpPr>
            <p:cNvPr id="138" name="AutoShape 11"/>
            <p:cNvSpPr/>
            <p:nvPr/>
          </p:nvSpPr>
          <p:spPr>
            <a:xfrm rot="3813000">
              <a:off x="5826240" y="2985480"/>
              <a:ext cx="576360" cy="64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2"/>
            <p:cNvSpPr/>
            <p:nvPr/>
          </p:nvSpPr>
          <p:spPr>
            <a:xfrm rot="3813000">
              <a:off x="5302800" y="3209400"/>
              <a:ext cx="718920" cy="647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5359680" y="1843200"/>
            <a:ext cx="1320480" cy="1148400"/>
            <a:chOff x="5359680" y="1843200"/>
            <a:chExt cx="1320480" cy="1148400"/>
          </a:xfrm>
        </p:grpSpPr>
        <p:sp>
          <p:nvSpPr>
            <p:cNvPr id="141" name="AutoShape 14"/>
            <p:cNvSpPr/>
            <p:nvPr/>
          </p:nvSpPr>
          <p:spPr>
            <a:xfrm rot="7251000">
              <a:off x="5965560" y="2252880"/>
              <a:ext cx="576360" cy="649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5"/>
            <p:cNvSpPr/>
            <p:nvPr/>
          </p:nvSpPr>
          <p:spPr>
            <a:xfrm rot="7251000">
              <a:off x="5462280" y="1994040"/>
              <a:ext cx="718920" cy="647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6632640" y="1353600"/>
            <a:ext cx="772200" cy="1203480"/>
            <a:chOff x="6632640" y="1353600"/>
            <a:chExt cx="772200" cy="1203480"/>
          </a:xfrm>
        </p:grpSpPr>
        <p:sp>
          <p:nvSpPr>
            <p:cNvPr id="144" name="AutoShape 17"/>
            <p:cNvSpPr/>
            <p:nvPr/>
          </p:nvSpPr>
          <p:spPr>
            <a:xfrm rot="11098800">
              <a:off x="6684840" y="1884240"/>
              <a:ext cx="576360" cy="649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 rot="11098800">
              <a:off x="6658920" y="1383120"/>
              <a:ext cx="718920" cy="647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9"/>
          <p:cNvGrpSpPr/>
          <p:nvPr/>
        </p:nvGrpSpPr>
        <p:grpSpPr>
          <a:xfrm>
            <a:off x="7218720" y="1848960"/>
            <a:ext cx="1322280" cy="1128960"/>
            <a:chOff x="7218720" y="1848960"/>
            <a:chExt cx="1322280" cy="1128960"/>
          </a:xfrm>
        </p:grpSpPr>
        <p:sp>
          <p:nvSpPr>
            <p:cNvPr id="147" name="AutoShape 20"/>
            <p:cNvSpPr/>
            <p:nvPr/>
          </p:nvSpPr>
          <p:spPr>
            <a:xfrm rot="14434200">
              <a:off x="7354800" y="2242800"/>
              <a:ext cx="576360" cy="649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1"/>
            <p:cNvSpPr/>
            <p:nvPr/>
          </p:nvSpPr>
          <p:spPr>
            <a:xfrm rot="14434200">
              <a:off x="7722720" y="1997280"/>
              <a:ext cx="718920" cy="647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22"/>
          <p:cNvGrpSpPr/>
          <p:nvPr/>
        </p:nvGrpSpPr>
        <p:grpSpPr>
          <a:xfrm>
            <a:off x="6968520" y="3268080"/>
            <a:ext cx="1153080" cy="1322280"/>
            <a:chOff x="6968520" y="3268080"/>
            <a:chExt cx="1153080" cy="1322280"/>
          </a:xfrm>
        </p:grpSpPr>
        <p:sp>
          <p:nvSpPr>
            <p:cNvPr id="150" name="AutoShape 23"/>
            <p:cNvSpPr/>
            <p:nvPr/>
          </p:nvSpPr>
          <p:spPr>
            <a:xfrm rot="19710000">
              <a:off x="7095600" y="3370680"/>
              <a:ext cx="576360" cy="64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4"/>
            <p:cNvSpPr/>
            <p:nvPr/>
          </p:nvSpPr>
          <p:spPr>
            <a:xfrm rot="19710000">
              <a:off x="7286040" y="3802320"/>
              <a:ext cx="718920" cy="647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5"/>
          <p:cNvGrpSpPr/>
          <p:nvPr/>
        </p:nvGrpSpPr>
        <p:grpSpPr>
          <a:xfrm>
            <a:off x="7370640" y="2872440"/>
            <a:ext cx="1249200" cy="843840"/>
            <a:chOff x="7370640" y="2872440"/>
            <a:chExt cx="1249200" cy="843840"/>
          </a:xfrm>
        </p:grpSpPr>
        <p:sp>
          <p:nvSpPr>
            <p:cNvPr id="153" name="AutoShape 26"/>
            <p:cNvSpPr/>
            <p:nvPr/>
          </p:nvSpPr>
          <p:spPr>
            <a:xfrm rot="16815000">
              <a:off x="7453080" y="2888640"/>
              <a:ext cx="576360" cy="64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7"/>
            <p:cNvSpPr/>
            <p:nvPr/>
          </p:nvSpPr>
          <p:spPr>
            <a:xfrm rot="16815000">
              <a:off x="7877880" y="2980800"/>
              <a:ext cx="718920" cy="647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28"/>
          <p:cNvSpPr/>
          <p:nvPr/>
        </p:nvSpPr>
        <p:spPr>
          <a:xfrm>
            <a:off x="6948360" y="3500280"/>
            <a:ext cx="0" cy="180036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riterii pentru alegerea celor mai potrivite canale de comunicare cu grupurile ţint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203640" y="1628640"/>
            <a:ext cx="2808360" cy="3095640"/>
            <a:chOff x="3203640" y="1628640"/>
            <a:chExt cx="2808360" cy="3095640"/>
          </a:xfrm>
        </p:grpSpPr>
        <p:sp>
          <p:nvSpPr>
            <p:cNvPr id="158" name="Text Box 5"/>
            <p:cNvSpPr/>
            <p:nvPr/>
          </p:nvSpPr>
          <p:spPr>
            <a:xfrm>
              <a:off x="3743280" y="1628640"/>
              <a:ext cx="165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000000"/>
                  </a:solidFill>
                  <a:latin typeface="Arial"/>
                </a:rPr>
                <a:t>Grad de acoperir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3203640" y="2060640"/>
              <a:ext cx="2808360" cy="2663640"/>
            </a:xfrm>
            <a:prstGeom prst="ellipse">
              <a:avLst/>
            </a:prstGeom>
            <a:solidFill>
              <a:srgbClr val="bbe0e3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7"/>
          <p:cNvGrpSpPr/>
          <p:nvPr/>
        </p:nvGrpSpPr>
        <p:grpSpPr>
          <a:xfrm>
            <a:off x="4356000" y="3141720"/>
            <a:ext cx="4103640" cy="2663640"/>
            <a:chOff x="4356000" y="3141720"/>
            <a:chExt cx="4103640" cy="2663640"/>
          </a:xfrm>
        </p:grpSpPr>
        <p:sp>
          <p:nvSpPr>
            <p:cNvPr id="161" name="Text Box 8"/>
            <p:cNvSpPr/>
            <p:nvPr/>
          </p:nvSpPr>
          <p:spPr>
            <a:xfrm>
              <a:off x="6804000" y="50846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</a:t>
              </a:r>
              <a:r>
                <a:rPr b="1" lang="ro-RO" sz="2000" spc="-1" strike="noStrike">
                  <a:solidFill>
                    <a:srgbClr val="000000"/>
                  </a:solidFill>
                  <a:latin typeface="Arial"/>
                </a:rPr>
                <a:t>cvenţ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4356000" y="3141720"/>
              <a:ext cx="2808360" cy="2663640"/>
            </a:xfrm>
            <a:prstGeom prst="ellipse">
              <a:avLst/>
            </a:prstGeom>
            <a:solidFill>
              <a:srgbClr val="bbe0e3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0"/>
          <p:cNvGrpSpPr/>
          <p:nvPr/>
        </p:nvGrpSpPr>
        <p:grpSpPr>
          <a:xfrm>
            <a:off x="857160" y="3143160"/>
            <a:ext cx="4032360" cy="2663640"/>
            <a:chOff x="857160" y="3143160"/>
            <a:chExt cx="4032360" cy="2663640"/>
          </a:xfrm>
        </p:grpSpPr>
        <p:sp>
          <p:nvSpPr>
            <p:cNvPr id="164" name="Text Box 11"/>
            <p:cNvSpPr/>
            <p:nvPr/>
          </p:nvSpPr>
          <p:spPr>
            <a:xfrm>
              <a:off x="857160" y="508608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r>
                <a:rPr b="1" lang="ro-RO" sz="2000" spc="-1" strike="noStrike">
                  <a:solidFill>
                    <a:srgbClr val="000000"/>
                  </a:solidFill>
                  <a:latin typeface="Arial"/>
                </a:rPr>
                <a:t>uri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"/>
            <p:cNvSpPr/>
            <p:nvPr/>
          </p:nvSpPr>
          <p:spPr>
            <a:xfrm>
              <a:off x="2081160" y="3143160"/>
              <a:ext cx="2808360" cy="2663640"/>
            </a:xfrm>
            <a:prstGeom prst="ellipse">
              <a:avLst/>
            </a:prstGeom>
            <a:solidFill>
              <a:srgbClr val="bbe0e3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3"/>
          <p:cNvGrpSpPr/>
          <p:nvPr/>
        </p:nvGrpSpPr>
        <p:grpSpPr>
          <a:xfrm>
            <a:off x="3492360" y="3068640"/>
            <a:ext cx="2268720" cy="2160720"/>
            <a:chOff x="3492360" y="3068640"/>
            <a:chExt cx="2268720" cy="2160720"/>
          </a:xfrm>
        </p:grpSpPr>
        <p:sp>
          <p:nvSpPr>
            <p:cNvPr id="167" name="Oval 14"/>
            <p:cNvSpPr/>
            <p:nvPr/>
          </p:nvSpPr>
          <p:spPr>
            <a:xfrm>
              <a:off x="3492360" y="3068640"/>
              <a:ext cx="2268720" cy="2160720"/>
            </a:xfrm>
            <a:prstGeom prst="ellipse">
              <a:avLst/>
            </a:prstGeom>
            <a:solidFill>
              <a:srgbClr val="bbe0e3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5"/>
            <p:cNvSpPr/>
            <p:nvPr/>
          </p:nvSpPr>
          <p:spPr>
            <a:xfrm>
              <a:off x="3798720" y="400536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"/>
              </a:rPr>
              <a:t>Gradul de acoper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esajul ajunge la grupurile ţintă/alte grupuri. Evitarea risip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idicat vs. re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rmen scurt vs. termen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"/>
              </a:rPr>
              <a:t>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itatea de măsu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sturi de producţ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sturi de difuz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</a:t>
            </a: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"/>
              </a:rPr>
              <a:t>cven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âte o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ficienţa marginală a mesaj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u se cumpăr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nctele tari şi punctele slabe ale diferitelor canale de comunic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dul de “consum” al diferitelor canale de comunicare (tehnica “o zi din viaţa...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rebari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mentul in cadrul proiectul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ea proiect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rea planului de proi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ul planului de proi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ul probleme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ul co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inut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</a:rPr>
              <a:t>Managementul comunică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anagementul riscur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anagementul documente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anagementul calităţ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anagementul indicator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ul comunicar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ormularea strategiei de comunicare în cadrul proiectulu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municarea cu finanţator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municarea în cadrul echipei de proi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municarea cu grupurile ţint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Formularea strategiei de comuni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dentif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carea grupurilor ţintă şi a obiectivelor comunică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ulare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j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tabilirea metodelor şi canalelor de comun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Pla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ficarea şi organizarea activităţilor de comuni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tabilirea bugetului activităţilor de comun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valu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2. Comunicarea cu finanţator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(a) În etapa de scriere a propunerii de proi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(b) Pe parcursul implementăr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(a) În etapa de scriere a propunerii de proi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ele 10 porun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iţi convinşi că ştiţi ce aşteaptă finanţatorul de la Dvs. şi ce aşteptaţi Dvs. de la finanţa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losiţi un limbaj normal şi nu “jargonul” de specialitate pe tematica proiectulu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rmulaţi fraze scur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ranspuneţi abstractul în concr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iţi convinşi că transmiteţi un mesaj clar şi unit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u încercaţi să spuneţi totul în propunerea de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aboraţi o structură clară a idei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unctaţi conexiunile între id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aţi o notă de entuziasm şi empatie proiectulu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u vă depărtaţi de “lumea” grupurilor ţint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(b) Pe parcursul implementăr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tact telefonic/pe email cu ofiţ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 proie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ri de ramburs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apoarte intermediare şi raportu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SFATU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sonalizaţi-vă comunicarea cu ofiţerul de proiect (ofiţerul de proiect este şi el un o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reţi-i sfaturi, dar nu abuzaţi de timpul acestu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abiliţi şi vizite face to face; comunicarea pe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il este operativă, dar nu suficient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cludeţi feedback-ul primit de la ofiţerul de proiect în activităţile proiectu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3. Comunicarea în cadrul echipei de proi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aracteristici care pot influenţa procesu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multe proiecte, echipa de implementare lucrează pentru prima dată împreun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xistă foarte puţin timp pentru a se dezvolta relaţii interperson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aracterul temporar al proiecte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6:51:56Z</dcterms:created>
  <dc:creator>Catalin Amarinei</dc:creator>
  <dc:description/>
  <dc:language>en-US</dc:language>
  <cp:lastModifiedBy>Utilizator</cp:lastModifiedBy>
  <dcterms:modified xsi:type="dcterms:W3CDTF">2010-11-25T07:24:40Z</dcterms:modified>
  <cp:revision>13</cp:revision>
  <dc:subject/>
  <dc:title>Slide 1</dc:title>
</cp:coreProperties>
</file>